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8255-57EA-4919-B8B1-1C76D7FB3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99F1-0D15-44C4-B343-1797123A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7027-5019-40A5-9953-08FF56E31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BA4E-4A76-43DB-8664-D3A2CF923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ABCF-A072-4171-A9AF-69992D1F8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D2A0-7E50-4E27-8384-E8CD3C68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F0A8-CB9D-4247-8F1F-20D501CF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0A28-D87D-45D4-BD02-44DB8EF9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285A-B7E2-4B84-9EEB-489BC612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3693-4833-4A82-8960-3CDABFA8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0ACD-FA48-496D-BFD4-23C28857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B0F5-CEFE-4DB0-BD19-FE9C5D85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B7FC-AA6C-47B6-A179-B1BB4B74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732A-9440-45BE-A5AA-F4E4DE20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5F0F-C4CC-4EE8-AFB0-402943F5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B22C-92B7-40CC-B2E4-DF4EFE74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2B01-BF9B-41A6-A253-52243C807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71C7-EBB0-4D1A-B4F0-2023DDBD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659A-916D-4CEA-9D9D-F7360F92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BD76-1DE5-4CC1-AD60-5E2DA38B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56BE-8437-4D8A-8A20-27962080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D8C8-20DB-48E2-92EA-131E0FDC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7C0C-150A-4FFC-9F96-BD32C735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C45B-21F3-4C66-BE54-A2340E7E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FC37-F646-4878-BE65-85B5295F83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07F3-179A-4DB1-933B-A5FEEC6CB5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o.wikipedia.org/wiki/Motor_cu_combustie_intern&#259;" TargetMode="External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066680"/>
            <a:ext cx="4876920" cy="3657600"/>
          </a:xfrm>
          <a:prstGeom prst="rect">
            <a:avLst/>
          </a:prstGeom>
          <a:gradFill rotWithShape="0">
            <a:gsLst>
              <a:gs pos="0">
                <a:srgbClr val="2b877c"/>
              </a:gs>
              <a:gs pos="100000">
                <a:srgbClr val="6fb56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Arial Black"/>
              </a:rPr>
              <a:t>Cum este influentat viitorul de descoperirile trecutului?</a:t>
            </a: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781680" y="1523880"/>
            <a:ext cx="13716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dffbb"/>
                </a:solidFill>
                <a:latin typeface="Arial Black"/>
              </a:rPr>
              <a:t>?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ddffbb"/>
              </a:solidFill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191120" y="5715000"/>
            <a:ext cx="3333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ddffbb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ddffbb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prof. M.Seusa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ddffbb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Intrebarea unitatii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Mai prezint</a:t>
            </a:r>
            <a:r>
              <a:rPr b="0" lang="ro-RO" sz="32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interes motoarele termice pentru noi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Intrebarile de continu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e sunt combustibilii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e este un motor termic si cum functioneaz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e sunt caracteristicile unui motor termic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m recunosti un motor “bun”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re este istoria motoarelor? Dar perspectiva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2120" y="2057400"/>
            <a:ext cx="7086600" cy="3581280"/>
          </a:xfrm>
          <a:prstGeom prst="rect">
            <a:avLst/>
          </a:prstGeom>
          <a:solidFill>
            <a:srgbClr val="5a9a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2514600"/>
            <a:ext cx="807696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 Extra Bold"/>
                <a:ea typeface="Times New Roman"/>
              </a:rPr>
              <a:t>Esti angajat la o firma de vanzari automobil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 Extra Bold"/>
                <a:ea typeface="Times New Roman"/>
              </a:rPr>
              <a:t>Sarcina ta este sa elaborezi o prezentare cu informatii generale despre motoare pentru a veni in sprijinul clientil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43000" y="685800"/>
            <a:ext cx="7010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ata provocarea!</a:t>
            </a:r>
            <a:endParaRPr b="1" lang="en-US" sz="4800" spc="1" strike="noStrike">
              <a:ln w="1908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e ai de facut?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gradFill rotWithShape="0">
            <a:gsLst>
              <a:gs pos="0">
                <a:srgbClr val="133e39"/>
              </a:gs>
              <a:gs pos="100000">
                <a:srgbClr val="2b877c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alizeaza o prezentare Power Point in care sa fie sa apara informatii desp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ipurile de motoare si caracteristicile lor (combustibil utilizat,putere, consum, randament, acceleratie, turatie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bustibili (definire, clasificare, putere caloric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asificarea motoarelor term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incipiul de functionare al motoarelor term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uncte tari si puncte slabe ale fiecarui mo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storicul motoarelor / Perspectiva motoare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comandari  posibile pentru clien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24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mariti sarcinile din fisa de activitate si completati-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biliti impreuna cu colegii vostri o schita a prezentarii si alegeti un titl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eti un inventar al lucrurilor pe care le aveti de facut, repartizati sarcinile si stabiliti termene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rmenul de finalizare a prezentarii ……ora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i la dispozitie 5 ore in clasa si va recomand 3 ore de lucru / pe saptamana acas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59436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mariti lista de verifica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30492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comandar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Black"/>
              </a:rPr>
              <a:t>Surse de informa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90512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33"/>
                </a:solidFill>
                <a:uFillTx/>
                <a:latin typeface="Arial"/>
                <a:hlinkClick r:id="rId1"/>
              </a:rPr>
              <a:t>http://ro.wikipedia.org/wiki/Motor_cu_combustie_intern%C4%8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ttp://findarticles.com/p/articles/mi_km4455/is_200510/ai_n162636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ttp://findarticles.com/p/articles/mi_m1590/is_14_63/ai_n1918742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ww.referat.ro/referate/Motoare_termice_7919.h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ttp://www.sfin.ro/articol_2645/petrolul__combustibil_pentru_solutiile_energetice_alternative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ttp://www.msnbc.msn.com/id/58420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2T18:41:04Z</dcterms:created>
  <dc:creator>ECC</dc:creator>
  <dc:description/>
  <dc:language>en-US</dc:language>
  <cp:lastModifiedBy>seusan</cp:lastModifiedBy>
  <dcterms:modified xsi:type="dcterms:W3CDTF">2007-08-19T19:15:51Z</dcterms:modified>
  <cp:revision>40</cp:revision>
  <dc:subject/>
  <dc:title>PowerPoint Presentation</dc:title>
</cp:coreProperties>
</file>